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FBD9-265F-4B84-AA43-B29B2A71B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2BCD-622F-4DC8-A0FB-0DF01CC6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B91C7A-2B10-4F83-9AB9-52AE78C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C840B1-504F-4327-82A9-A7A26604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764C4B-0FA4-4CB6-914C-3F0B159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25324-60A3-4E3A-AF4D-6F7CABB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25B181-769B-411A-9B85-FBD2EA1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AF715-B9DA-44A5-9D89-53605647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06A2F-8C10-40A6-9710-84249D2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7BDAF-ECA8-4046-8EB8-1C60960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AB9EB7-D769-4B44-AD57-60F79BAC3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B23C6-576E-4225-B504-6379830BF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9422-46C0-4E07-AE67-60B577F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5119-815B-48F0-B9F8-3D139E1E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580E4-0A9D-4B52-BD42-66E292A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AA82-9D00-4F93-B1AF-46C4689E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A046-65B8-48B1-BC96-CD18B736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5612C-ABAE-4341-83CA-9AE96E0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09B6C-DFFA-429E-AAE5-3217E47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497C-8CCE-45B8-A6C4-F09F73B5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9405-02B2-437D-9459-FBC493F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4B724-18CE-430F-960D-10115DFA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7925-7E1F-4A06-99E8-CA149DB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A3B4-3678-457B-9E8E-79242FFAD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97F8-4DCB-4B27-802C-6E704B5F37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973CA-332D-4A49-81AD-4CFE59EC9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20260-5B6F-4DFE-8D56-7FB15D31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02519-D2FF-4088-9D28-945299EF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F3D17-3BDE-43F2-B4E0-87B4008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D0168-95CB-4717-883E-B4A87C55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85F39-9C6E-4616-81EC-4CAC7CA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B626F-5A1B-444F-8983-1C35CBB8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CEF80-FEE6-4630-B72E-264FAD4C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12E679-114F-4CF3-8C45-587F7020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3836-2C0B-486D-8DDE-E6E4BB7A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AAE6C-93CC-4DF3-A142-DE02D2B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DE686B-3129-4BCA-BA7D-4CCFD50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0DCC3-B0D1-401D-94EB-FA7E4A0D3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3D294-A439-4942-8D93-FB76F4C0B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19964-43FB-425A-9147-CE722C69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2DE8F-E0A7-425D-964F-1D683747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F1394-AACA-4D91-AAA1-EADFA4A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04CCA-4028-43D0-973F-BF6EB7AC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4154F-A480-4688-B1F8-FFC356C1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E9616-78CE-4E52-AAB9-8D7C48F6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2380-16C6-411F-8906-450587A5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61FCD-62C0-4B81-9511-C51D52DC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0055F-CB06-468E-8E62-28E30931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9A6CE-59CC-4833-92C9-9F05AE7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E7B66-9387-480D-91D5-A78D7BB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30C73-0F3A-4D02-86A7-CE826E8CA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0F332-AC1B-42C8-BD78-EA3C3B463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5F9D5-2019-454F-816C-96EF126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C75F8-1D8A-4E3C-B82C-D4A1EF63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4E4AF-F673-454D-973E-A4829C44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88048-4769-4817-AF3B-EA4D34E4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9BCDF-8D60-4CF6-9212-1F02A8EF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8BBB4-3AD2-49DB-A40C-CA625E3D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F59E-8621-486C-B92D-CD901EBC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1E48A-3109-4283-BF77-D7C63156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110E-1264-4534-9392-E0E6742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50BAA-7D9D-4168-886E-F5790EE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1FF34-B6FC-4ADD-BD79-81423A7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5A892-12AA-48B0-A35F-339C1CF94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1C24A-8BD8-4CAE-BDD3-30CDA9F2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D7C6A-29DB-4A0F-9002-1257C47C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B55D4-8BC5-4224-ACCE-F4B277B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3013D-EFB6-4950-806E-FE0F722C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FCDED-7C0F-445B-B7F5-3F2F48A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C1DCD-805C-4D22-9155-B9AFE62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1381A-9E2D-4C0F-B442-E9C1542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786C9-86ED-44FC-B827-4B864091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325CA-110E-44F0-A311-C9BF960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B1420-F2F3-47B9-B68F-79157D8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23092-0B56-4E6D-8D4C-03BFCE80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F1ABC-40D1-426B-A0CD-3ACE19CF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18CE2-4C73-4CB7-A0AB-1B06D26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1712D-0015-429A-BF57-AA3EAC82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EE40-8FCC-44D3-9D41-3E577553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F8A29-755A-4B5A-A07D-C43DB42A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FF6E3-1C6D-408F-B03F-841DCF7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978CA-793C-4284-AB43-7737CBD5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CDED4-41AF-4E84-8E5B-2944F432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C8A03-3BC7-43C1-A146-0AF8304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0E1F7-1F20-4DE0-AA34-5DF3CA5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82BB-C5CD-4898-9FB4-87ED956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D5F4-3C05-433E-9EFA-CCC89413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DD55E-F6EA-49D2-88EA-BF30EF7B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DF848-F0A4-4578-AEC3-55DA539D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C3932-21DA-4DCF-8D36-8B995251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1852-548C-4C4D-BEFF-A7C6C627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7F4E6-AA1C-4771-94D8-43C399C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9DCAA-0445-4D2E-9CA5-2B32DF10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39295-9638-42B2-A88F-59FAC9B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040EA-43E6-4496-9558-7C10049B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675A6-6F62-445C-8C69-8609F0E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0EBE6-A6EF-4727-8B55-2D7DA0E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C208D-A386-4988-81F9-149C04E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1E32A-743A-4B6E-B1E2-4CA265C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C7545-C956-4BCE-AB5D-8D3359E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112B0-5E2C-4D81-90C0-9AACC53E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8C573-68FF-4063-A313-11759AE0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90AB5-14BF-4EEB-BA9B-1F9DD8A8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F27EE-9775-4BAA-944D-F89BFACA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53877-9A7A-4FEE-9943-BED69327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B80A0-DE3F-4C20-A4FB-127A40BA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6CB3B-D95C-4AE8-B52C-038D6D78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6C6E8-ECF1-4BB7-9BD7-7AF59F6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A1A10-6E14-4E3C-9720-A5AF684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0025C-08C6-4B20-8E47-52038957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C4E26-A2A5-43CD-A01C-E102341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2547-DE81-4018-85E1-BD82D12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151D3-E55D-4A69-9D31-A17308B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85128-A59E-4ECB-8D44-E345229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A2A62-6BC2-4CC8-B9B6-947BDDA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41726-6BA6-490C-AA58-42BD05C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71BBD-BCD9-4C21-879B-870B951E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D3FDD-0FFC-4E0D-83F8-C7806009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D2A41-8837-4871-A9E2-4C72E7F2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A4E6F-3002-4583-B061-A36025BB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2068F-0FC6-4BD4-8B00-7AFD8698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358A4-4276-4DEE-8AAC-9924F096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77F7F-A0C0-490D-89ED-08D1D236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6766C-D108-4096-B9C2-9B0EA6C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C3F2C-E0A7-47C3-B24C-0F78509E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80576-16F5-46F0-8B4F-C1CBE84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89116-EFF3-439E-BCD7-F20115B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B5939-E168-46E0-A3C9-7854793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BB491-01C5-4DB9-B904-226D62E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28223-1FD4-42DA-8273-4B335B3E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99CC4-166F-428C-ABAC-1FF51E33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5AD84-576D-47CB-A053-AB9AAA07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91653-3CE3-40C4-B04A-45D5D1F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3B672-0BC2-4898-8D64-24135C5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D82A-EDAA-423A-BB1A-31E3CA15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2E803-E639-4E3A-BEF4-989555B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C60F7-4D85-4F79-B496-1EA4D5BD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5EF6A-2FF4-4B3C-8C42-7822B77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65EDE-D9D5-4CFC-BF06-583899B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79392-B188-455C-B9D6-BAB885F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E8169-A629-40DB-A3C6-BC3415D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192B4-509E-4CDC-8BE9-881FAC83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F6F3C-A192-4E2E-A80D-AAB8DEAA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AD65F-738E-40C0-B4DC-9CAAF689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DDCF4-A3D4-4801-8085-90491075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94E84-F005-4967-9F9A-223CF9F9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A529C-F7A8-4C78-8688-D9F9A59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E8FAB-EA2C-4E73-8DA8-015ACEA6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A3F4B-C819-420E-B49D-20627D2D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63E61-0BBE-4EBB-8831-7EFCD880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7FF6A-80EB-475B-821D-C28C3F2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53E3B-630A-4C27-83B1-7A742C55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52BA3-B685-4534-904E-FA4E237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0B8BC-AA51-446D-86D0-C7D6E01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071A1-AC64-4517-938D-9C1B98E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3A2C2-162F-4555-BBCD-C59487AA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0FA0D-E8E8-47B5-9D14-AD3AB3AF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9815A-F10A-47FA-A9FF-B26AA9C8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70A66-DE6C-4DBE-B7DD-76435C5B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26FB2-B95C-49DD-9821-0A6EEAB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F26CE-501D-4241-A459-BE10ACFB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1AB44-FBE9-4CD6-88B2-5D8437B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EC8DA-6194-4DA2-AD9E-6442C6E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B61F4-A684-4CA3-9407-EAE9FA14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D18D4-2B94-4BCF-95E5-C943C76D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43837-D866-444C-94AE-5A828AC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E7AFE-2DC9-4A98-A453-7C83036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FA23B-03A6-4B9E-BF1A-4E25DD9FB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5E1E4-C021-455D-A0C1-EE72FBC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7A210-2DB1-4866-B9D3-8CE448FB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6A2B5-C2BC-451F-AC0C-E32694D2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8E2DE-873A-4154-8A31-FA542A12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2C41B-4982-4D13-9248-CDDA6D59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9E893-F26A-488A-825B-773725DA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66C30-4105-4103-9FFF-F8FDD36C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ADDBE-F100-4718-B76C-5385921F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ECFE0-CCB9-45F6-836B-7A2B3D4E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BEA79-4969-4FDC-B3FA-28F487B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963EFF-EF39-4B06-9EFA-900A5E4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74211-1222-40ED-A46D-8F20741E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CE83A-361F-4B34-9290-201AE85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28958-080D-4A6F-BF26-EB1E6E4C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C3D28-D10D-44B6-BFBE-4083BAA7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31D99-EF3D-4D74-869B-7C84D0BD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7BEB8-C97E-43D8-911E-B3FD240D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1847F-F145-4CB7-8D4F-D9EFA61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864F3-0074-4E5B-852F-5C80D52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AC234-F742-4EBE-92DF-E8A1AB3C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C2676-843C-4218-91B6-A9518BA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EAAC7-D8C5-46F1-A2BD-662C121F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508AF-A1FB-4DB9-ACC1-4276B8F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5F91E-EAC4-4AA6-A04E-868957C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5DB57-2CC2-467B-84B8-9F2C66E5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6DAFD-3992-4AC2-95F7-463105C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D6DEB-0979-456B-9A70-E88DE115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E5B59-322F-48B9-BDE8-1556C695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F1D45-74BB-4F29-9906-DAD9EF48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96889-2732-4888-806A-F743F343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250AD-D5B2-4127-B553-627054FE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9591C-4E43-4E4E-A06E-9432119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5BD6A-7A96-4AF6-A77D-3292767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5FAFA-AD6C-4A29-94B2-841C085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8E4B3-9796-4BD4-9473-CF435AC6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F34B0-3D74-4898-9EA3-870F309A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1A4E2-1E33-48E6-B8A3-01E18907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34DB6-B067-4D85-8765-0485A7FC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06532-3015-4CA7-A2BA-8E075D03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1CADF-F4E9-43DF-9A7D-2A87725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A13CF-534F-4BDD-84FF-2D0B17A2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C1929-0869-4251-BA1C-48EC7C71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E7CEB-111D-4C86-A5B5-27068068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C7E8-63C5-4050-953B-FAAC5376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B9AF0-C9C7-4A01-8E57-009C38C4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FA92D-9053-428F-BB8E-62281FA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81890-A3DB-413C-897A-9BA10ED0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3AA76-2951-49B4-8462-8EDE0A8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9B663-0015-4289-95C7-732BA207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39F8E-F6CF-4C95-B212-DC845E0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C2DB0-5AD2-477B-B647-9C9FEFADE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F05A-B0C0-4673-A40D-802A97DC9F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72F8-E274-45F5-B7B5-9F3000C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879A-55FB-427A-BE10-79278F88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1B18-5A6D-4E59-9037-F347E1C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EDDA-E6CC-40BB-8581-25FF4E42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1ECF-CAE5-4168-9CA2-C715EB68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6473-D176-4FF4-B60F-C7EC15CB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1A0D-9A7E-4244-8350-D8E2C3F5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F1DA-1EEC-4FBD-89C2-C4BF135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9B20-2C28-4EFE-BB45-8F358291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067D-3A8C-4286-BEDC-D054E6E2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B8F3-35D4-4372-AE89-D4014FB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41F5-2CF2-4254-B9A3-5897C5A9F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10038-8B93-4B2D-AFA3-E3A4D3D5B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DA33-8177-4859-97B2-D5D3A0E3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B1F21-B53F-462D-BEB9-DFB347EB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C2713-7546-4D97-BE1F-054C2D8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D1E4E-668E-4A55-BAC9-A2A20485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76D0B-B4BC-4AC0-91F3-15799783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76380-5C96-45A2-8CB1-E1A60DDD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F8ADD-4FC0-405E-963C-110D8FD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A14D4-63BA-4EBF-A26C-9988AA75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ABCB7-4CEC-4983-8C4D-364087DA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0679D-70C6-4F00-9998-190D6EC9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566AF-F9E7-4BF0-ADE4-EEE76BE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85C0-7D13-4E9C-9851-DB27CA33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007BA-0C15-47F0-B77D-085E163B8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A52678-4919-48E1-8F16-E84495134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A6FFF3-C7B3-4D0D-AA63-520505DD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9D29A-08CA-4D37-B017-982A2869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9C310-6BCB-487B-AD46-2CED9422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69B564-9513-4A98-9121-51EBEDA1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03A143-3629-4D50-A904-B81EC25F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E9053-DBB2-4048-9AE6-9C323E81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8748D-89CD-4075-9E7F-624BEF5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4DE73F-0369-40BA-A01B-43DC2275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7B72-8117-490C-885A-505D177B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246C3-F504-4027-A203-C8F7D980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6F9AFE-2785-42D3-AF22-2C70DD9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843A9-3AD0-4508-8010-9ACD087F9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8158-C207-4BAB-BA19-C7134E965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714B-C648-44A9-89FE-B995B04F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15E6-7420-426A-8188-3DD8ECF2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DDC5-E5DB-4C21-9EED-B0A816D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BA224-479B-4288-8352-A1B9044C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503C-1227-4EA1-BCC1-FA8F3125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4EC8B-76F7-4710-8336-DAC4154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4321-F05E-4103-AA3F-92DD101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38FA-9070-468A-8DC0-C57F161B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A431-E822-4BA9-A783-4D6A67D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6E36-AAD1-4DC2-A6D4-EED259C4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09162-3537-445B-9620-522CBE3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9876-C01B-4281-96C1-53D0922E4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0250B-12AD-4BB0-A381-CFE2A2819B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6B7F9-2460-4A36-8155-943888C4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BC520-45B3-4D62-B222-C9F79157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807CF-A11E-447E-81DE-2EF6595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CD7D3-3F25-43E1-A6C9-E0BA7EE6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D45A-B0F3-4E8F-9563-7F06B764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E9554-04B5-4BC9-9740-66532A73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2A932-7614-474F-A2C5-6E5190E4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BA28D-9E0A-4F0F-993B-7850B38B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57589-1CBE-49D7-AFE3-E3ACF272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0E580-BE5E-4FB2-81B1-EB3838B4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BF3B0-C5F0-464C-B404-5ED127C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AE98A-09F3-4AB5-98C3-243E3A34C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4C6226-52FD-4F2F-88A9-7A54CFF89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AE15B3-147D-4753-92F2-5DCABFE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46177-880A-46CD-B69A-278D8E4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A773-8C1A-4C8E-B1E0-AF24749846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E91-0CCC-4721-8713-6BFA5F043A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6CB-1EAC-4CA3-8DF2-9F9EDBD241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7DE-AB50-4F01-B579-321293FE60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5D0-F9EC-438E-A3FC-78C661366B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289-8CDE-42FE-98A8-93CF61305B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BEA-EF2A-4EE9-9288-7D53D3D31BC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546D-F78E-4B9D-9D86-468C6F38E1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F45B-B33E-4B5B-ABE8-114323E6A9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431-E4D3-493C-904E-6D64FAC414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B59D-7CE8-40A2-8429-CC555FBE48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F13-EEE9-4196-8419-6EE480C807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DD7-BC5E-4134-B7D6-9F02D36671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F392-00E8-4DF4-BE8B-03582F6D5F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174E-CC62-47AA-83A6-C612F5E752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7623-2F5F-426C-806F-A0ADB2A937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0F95-6BFA-49C2-A5CF-F67D9BA946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C14-B265-4E9A-9383-D29FC501AA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61E0-5135-4A96-A5D8-AF1EA9F25B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A83C-3C88-4534-A4E9-DEF9C30895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1827-4F54-41BF-A78D-0B69019035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7B3E-634F-4BFA-9209-99FAA48042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B177-FA9C-4600-8AA4-FEE34F3AE5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F48A-532D-4354-AFB9-50B097C15C6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3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" descr="D:\我的文档-桌面-收藏夹\桌面\QQ图片20150228163326.png"/>
          <p:cNvPicPr/>
          <p:nvPr/>
        </p:nvPicPr>
        <p:blipFill>
          <a:blip r:embed="rId1"/>
          <a:srcRect l="4394" t="17195" r="0" b="0"/>
          <a:stretch/>
        </p:blipFill>
        <p:spPr>
          <a:xfrm>
            <a:off x="357120" y="1401840"/>
            <a:ext cx="8358120" cy="250200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51"/>
          <p:cNvSpPr/>
          <p:nvPr/>
        </p:nvSpPr>
        <p:spPr>
          <a:xfrm>
            <a:off x="1500120" y="14731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1"/>
          <p:cNvSpPr/>
          <p:nvPr/>
        </p:nvSpPr>
        <p:spPr>
          <a:xfrm>
            <a:off x="3786120" y="1473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1"/>
          <p:cNvSpPr/>
          <p:nvPr/>
        </p:nvSpPr>
        <p:spPr>
          <a:xfrm>
            <a:off x="6072120" y="1473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1"/>
          <p:cNvSpPr/>
          <p:nvPr/>
        </p:nvSpPr>
        <p:spPr>
          <a:xfrm>
            <a:off x="8215200" y="1473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1"/>
          <p:cNvSpPr/>
          <p:nvPr/>
        </p:nvSpPr>
        <p:spPr>
          <a:xfrm>
            <a:off x="1500120" y="20462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51"/>
          <p:cNvSpPr/>
          <p:nvPr/>
        </p:nvSpPr>
        <p:spPr>
          <a:xfrm>
            <a:off x="378612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1"/>
          <p:cNvSpPr/>
          <p:nvPr/>
        </p:nvSpPr>
        <p:spPr>
          <a:xfrm>
            <a:off x="607212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51"/>
          <p:cNvSpPr/>
          <p:nvPr/>
        </p:nvSpPr>
        <p:spPr>
          <a:xfrm>
            <a:off x="8215200" y="2046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51"/>
          <p:cNvSpPr/>
          <p:nvPr/>
        </p:nvSpPr>
        <p:spPr>
          <a:xfrm>
            <a:off x="1500120" y="2689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786120" y="268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51"/>
          <p:cNvSpPr/>
          <p:nvPr/>
        </p:nvSpPr>
        <p:spPr>
          <a:xfrm>
            <a:off x="6072120" y="268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8215200" y="268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1"/>
          <p:cNvSpPr/>
          <p:nvPr/>
        </p:nvSpPr>
        <p:spPr>
          <a:xfrm>
            <a:off x="1500120" y="32367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3786120" y="3236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51"/>
          <p:cNvSpPr/>
          <p:nvPr/>
        </p:nvSpPr>
        <p:spPr>
          <a:xfrm>
            <a:off x="6072120" y="3236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8215200" y="3236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20"/>
          <p:cNvSpPr/>
          <p:nvPr/>
        </p:nvSpPr>
        <p:spPr>
          <a:xfrm>
            <a:off x="357120" y="92556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开火车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017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8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019" name="椭圆 35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1" name="椭圆 3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41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42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45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48" descr=""/>
              <p:cNvPicPr/>
              <p:nvPr/>
            </p:nvPicPr>
            <p:blipFill>
              <a:blip r:embed="rId8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28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0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矩形 3"/>
          <p:cNvSpPr/>
          <p:nvPr/>
        </p:nvSpPr>
        <p:spPr>
          <a:xfrm>
            <a:off x="142920" y="762120"/>
            <a:ext cx="900108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游戏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找朋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二七（     ）   三七（       ）     六七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七（      ） （    ）七三十五   （     ）七四十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1"/>
          <p:cNvSpPr/>
          <p:nvPr/>
        </p:nvSpPr>
        <p:spPr>
          <a:xfrm>
            <a:off x="1357200" y="146052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1"/>
          <p:cNvSpPr/>
          <p:nvPr/>
        </p:nvSpPr>
        <p:spPr>
          <a:xfrm>
            <a:off x="4071960" y="1484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7215120" y="1484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四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1500120" y="203184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3286080" y="20318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6357960" y="20318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0"/>
          <p:cNvSpPr/>
          <p:nvPr/>
        </p:nvSpPr>
        <p:spPr>
          <a:xfrm>
            <a:off x="142920" y="285768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根绳子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同样长的绳子共有多少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2357280" y="3357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×6=4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2"/>
          <p:cNvSpPr/>
          <p:nvPr/>
        </p:nvSpPr>
        <p:spPr>
          <a:xfrm>
            <a:off x="142920" y="414180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看口诀写算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3"/>
          <p:cNvSpPr/>
          <p:nvPr/>
        </p:nvSpPr>
        <p:spPr>
          <a:xfrm>
            <a:off x="571680" y="47131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六七四十二     五七三十五      二七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1"/>
          <p:cNvSpPr/>
          <p:nvPr/>
        </p:nvSpPr>
        <p:spPr>
          <a:xfrm>
            <a:off x="714240" y="53085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1"/>
          <p:cNvSpPr/>
          <p:nvPr/>
        </p:nvSpPr>
        <p:spPr>
          <a:xfrm>
            <a:off x="3071880" y="53085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7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5500800" y="5308560"/>
            <a:ext cx="142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×7=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57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